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5084-8D25-4712-984F-7D0E1435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43EA6-B183-4A3D-B166-59E35EED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D937-B9B3-435D-B8D1-010FD6BA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2BE28-B5D4-4791-B0A4-5F0F1D9B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F703-2F16-4AF7-88B1-891CD939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BA9D-9254-4A8C-93AE-AFEABBA5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7676-1B86-47F5-8F9D-3B95A0C3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E071-2E95-4C9D-967F-38ADFB3F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41B8-F8AE-4BEF-99FB-91BE69BD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55BB-AC82-4EDF-913E-C555A259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76CA-1E4B-40BB-9C9E-7413FD20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37B26-F5DD-4B1A-81BB-74D42CD8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926B-B110-429B-8507-E76453C6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870A-D74C-4EB7-831D-CA7E215A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3B80-61DC-432C-957E-24640C61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8805-8F6E-4BA8-9970-1F3DAF56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9A12-18E5-4F97-BBAC-3AAE739C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46F29-ECD6-4C40-A1EB-4F1BD4ED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C0FD7-47EF-4AF6-A62F-F9379960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9A3D7-2051-425B-BB53-BF506A30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AA46E-4CDB-4839-B2F5-3333F1BD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19623-6848-4E5C-AB0A-3C36C8CD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D708D-A98C-4209-B919-32F4EE51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3F93-B70A-4617-AD21-0C84B29D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2040-46F6-449C-9C0F-2DB3AE610C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B5E3-04A3-49D6-BEED-47BEE6BFAB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424160"/>
            <a:ext cx="6019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cc0000"/>
                </a:solidFill>
                <a:latin typeface="Arial"/>
              </a:rPr>
              <a:t>Психологическая регуляция поведения и деятельности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ru-RU" sz="3400" spc="-1" strike="noStrike">
                <a:solidFill>
                  <a:srgbClr val="cc0000"/>
                </a:solidFill>
                <a:latin typeface="Arial"/>
              </a:rPr>
              <a:t>– </a:t>
            </a:r>
            <a:r>
              <a:rPr b="0" i="1" lang="ru-RU" sz="3400" spc="-1" strike="noStrike" u="sng">
                <a:solidFill>
                  <a:srgbClr val="cc0000"/>
                </a:solidFill>
                <a:uFillTx/>
                <a:latin typeface="Arial"/>
              </a:rPr>
              <a:t>Эмоциональные</a:t>
            </a:r>
            <a:r>
              <a:rPr b="0" lang="ru-RU" sz="30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0" i="1" lang="ru-RU" sz="3400" spc="-1" strike="noStrike" u="sng">
                <a:solidFill>
                  <a:srgbClr val="cc0000"/>
                </a:solidFill>
                <a:uFillTx/>
                <a:latin typeface="Arial"/>
              </a:rPr>
              <a:t>явле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Процессы внутренней регуляции поведения и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А) </a:t>
            </a:r>
            <a:r>
              <a:rPr b="0" lang="ru-RU" sz="3600" spc="-1" strike="noStrike" u="sng">
                <a:solidFill>
                  <a:srgbClr val="666699"/>
                </a:solidFill>
                <a:uFillTx/>
                <a:latin typeface="Arial"/>
              </a:rPr>
              <a:t>Оценка результата по отношению к цели</a:t>
            </a: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Б) </a:t>
            </a:r>
            <a:r>
              <a:rPr b="0" lang="ru-RU" sz="3600" spc="-1" strike="noStrike" u="sng">
                <a:solidFill>
                  <a:srgbClr val="666699"/>
                </a:solidFill>
                <a:uFillTx/>
                <a:latin typeface="Arial"/>
              </a:rPr>
              <a:t>Оценка результата по отношению к потребности – выражение смы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Эмоция – это реакция на какое-то воздействи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Эмоция – это внутренняя работа. Работа печали З. Фрей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1) Знак (+/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2) Формально-динамические характеристики – интенсивность, дли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(аффекты - собственно эмоции – чувства /А.Н. Леонтьев/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3) Модальность – качественное своеобразие пережи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Успокоение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Удоволь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Неудоволь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я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Возб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.Вунд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3059280" y="458136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H="1">
            <a:off x="2050560" y="4581360"/>
            <a:ext cx="1008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3059280" y="335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4) Базовые (первичные) – производные (вторичные) (Плачик, Изар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Критерии: четкий нервный субстрат, мимика, отчетливо осознанное переживание, имеет адаптационное значение, рано формиру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Базовые эмоции по </a:t>
            </a:r>
            <a:r>
              <a:rPr b="0" lang="en-US" sz="3600" spc="-1" strike="noStrike">
                <a:solidFill>
                  <a:srgbClr val="666699"/>
                </a:solidFill>
                <a:latin typeface="Arial"/>
              </a:rPr>
              <a:t>(Plutchik, 196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Радость – Печ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Принятие – Отвращ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Гнев – Ст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жидание - Уди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Физиологический стресс (Г. Селье) – неспецифический ответ организма на предъявляемое сильное и опасное воздействие – Общий адаптационный синд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Фазы стресса – А) Фаза тревоги, Б) Фаза сопротивления,  В) Фаза исто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1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собенности психологического стресс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Информационный стресс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ПТС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Фрустрация – комплекс эмоциональных реакций в условиях недостижимой цели или неудовлетворения потреб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Ситуации: Лишения, Потери, Конфликт (по Розенцвейг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download"/>
          <p:cNvPicPr/>
          <p:nvPr/>
        </p:nvPicPr>
        <p:blipFill>
          <a:blip r:embed="rId1"/>
          <a:stretch/>
        </p:blipFill>
        <p:spPr>
          <a:xfrm>
            <a:off x="611280" y="2781360"/>
            <a:ext cx="2089080" cy="2641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963705"/>
          <p:cNvPicPr/>
          <p:nvPr/>
        </p:nvPicPr>
        <p:blipFill>
          <a:blip r:embed="rId2"/>
          <a:stretch/>
        </p:blipFill>
        <p:spPr>
          <a:xfrm>
            <a:off x="4284720" y="2421000"/>
            <a:ext cx="34002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Тревога – состояние: 1) Реакция на опасность, 2) которая угрожает «ядру» личности, + 3) ощущение беспомощ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Тревожность – личностная черта - ощущение неопределенной угрозы; чувство диффузного опасения и тревожного ожи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евротическая трев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Эмпа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Быть в состоянии эмпатии – значит воспринимать внутренний мир другого со всеми эмоциональными и смысловыми оттенками. Но без потери ощущения «как будт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(К. Роджер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i?id=21885283&amp;tov=7"/>
          <p:cNvPicPr/>
          <p:nvPr/>
        </p:nvPicPr>
        <p:blipFill>
          <a:blip r:embed="rId1"/>
          <a:stretch/>
        </p:blipFill>
        <p:spPr>
          <a:xfrm>
            <a:off x="1619280" y="2565360"/>
            <a:ext cx="1800360" cy="244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_8"/>
          <p:cNvPicPr/>
          <p:nvPr/>
        </p:nvPicPr>
        <p:blipFill>
          <a:blip r:embed="rId2"/>
          <a:stretch/>
        </p:blipFill>
        <p:spPr>
          <a:xfrm>
            <a:off x="4859280" y="2565360"/>
            <a:ext cx="38098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н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gnev_2"/>
          <p:cNvPicPr/>
          <p:nvPr/>
        </p:nvPicPr>
        <p:blipFill>
          <a:blip r:embed="rId1"/>
          <a:stretch/>
        </p:blipFill>
        <p:spPr>
          <a:xfrm>
            <a:off x="539640" y="2781360"/>
            <a:ext cx="2381400" cy="361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?id=30558465&amp;tov=7"/>
          <p:cNvPicPr/>
          <p:nvPr/>
        </p:nvPicPr>
        <p:blipFill>
          <a:blip r:embed="rId2"/>
          <a:stretch/>
        </p:blipFill>
        <p:spPr>
          <a:xfrm>
            <a:off x="3492360" y="2997360"/>
            <a:ext cx="2664000" cy="208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?id=20998009&amp;tov=8"/>
          <p:cNvPicPr/>
          <p:nvPr/>
        </p:nvPicPr>
        <p:blipFill>
          <a:blip r:embed="rId3"/>
          <a:stretch/>
        </p:blipFill>
        <p:spPr>
          <a:xfrm>
            <a:off x="6732720" y="3213000"/>
            <a:ext cx="15843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ив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Удивление"/>
          <p:cNvPicPr/>
          <p:nvPr/>
        </p:nvPicPr>
        <p:blipFill>
          <a:blip r:embed="rId1"/>
          <a:stretch/>
        </p:blipFill>
        <p:spPr>
          <a:xfrm>
            <a:off x="3203640" y="2852640"/>
            <a:ext cx="3816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юблен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Modi-Portret-Margariti"/>
          <p:cNvPicPr/>
          <p:nvPr/>
        </p:nvPicPr>
        <p:blipFill>
          <a:blip r:embed="rId1"/>
          <a:stretch/>
        </p:blipFill>
        <p:spPr>
          <a:xfrm>
            <a:off x="3492360" y="2276640"/>
            <a:ext cx="251964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Откуда мы знаем о своих собственных эмоциональных состояния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А о чужи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Есть ли эмоции у детей, животных, компьютеров и т.д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3 компонента эмо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Субъективный тон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Поведенческие проявлени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Физиологические процес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цевая экспрессия (мим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m_1684187762_1921956600"/>
          <p:cNvPicPr/>
          <p:nvPr/>
        </p:nvPicPr>
        <p:blipFill>
          <a:blip r:embed="rId1"/>
          <a:stretch/>
        </p:blipFill>
        <p:spPr>
          <a:xfrm>
            <a:off x="2700360" y="2852640"/>
            <a:ext cx="3095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07:53Z</dcterms:created>
  <dc:creator>User</dc:creator>
  <dc:description/>
  <dc:language>en-US</dc:language>
  <cp:lastModifiedBy>User</cp:lastModifiedBy>
  <dcterms:modified xsi:type="dcterms:W3CDTF">2010-05-26T16:03:39Z</dcterms:modified>
  <cp:revision>32</cp:revision>
  <dc:subject/>
  <dc:title>Тема 7 Лекция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40000000000010250600207f5200358026400</vt:lpwstr>
  </property>
</Properties>
</file>